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1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426F0-B11B-4E39-B224-06E8088CE0D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8AC9C-16FA-431D-A42E-15301BE5FCF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5C35F-5084-4830-8C4B-D9987407C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72FF7-1940-4BE6-BFEA-13FF2EBA5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ED737-809F-4C33-BE49-F715D1B06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69CF-6A37-48B4-B4C3-C08871628A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1EE1-9244-4E34-B6E2-A0570AA3C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0FC6-848E-4F1B-89A1-DE7098A7E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A1BD-B533-42A5-98A2-B1178B31F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7769-2586-4CF4-8429-C5D9B3C0E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BA8D-1120-449A-ABC4-87F88C3DA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030F-C77D-41F9-85D8-A2547DFFA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CDE2-08C9-4117-915F-D1E7A2BC3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812D-C9D7-45E6-8B1E-493969395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8199-F351-446C-841C-2CDC9DB1E1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3"/>
          <p:cNvSpPr/>
          <p:nvPr/>
        </p:nvSpPr>
        <p:spPr>
          <a:xfrm>
            <a:off x="1149480" y="1028880"/>
            <a:ext cx="6800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Arial"/>
                <a:ea typeface="Arial"/>
              </a:rPr>
              <a:t>«Цветы милосердия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015920" y="1917360"/>
            <a:ext cx="2844720" cy="19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милы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мил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помилов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483080" y="1917360"/>
            <a:ext cx="4038480" cy="257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сердц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сердце боли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(душа боли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сердечная бо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сердечный челове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Arial"/>
                <a:ea typeface="Arial"/>
              </a:rPr>
              <a:t>милосердие</a:t>
            </a:r>
            <a:r>
              <a:rPr b="1" lang="ru-RU" sz="8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есяц 6"/>
          <p:cNvSpPr/>
          <p:nvPr/>
        </p:nvSpPr>
        <p:spPr>
          <a:xfrm flipH="1" rot="16200000">
            <a:off x="2912760" y="-112320"/>
            <a:ext cx="428760" cy="146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00" y="0"/>
                  <a:pt x="0" y="5080"/>
                  <a:pt x="0" y="10800"/>
                </a:cubicBezTo>
                <a:cubicBezTo>
                  <a:pt x="0" y="16520"/>
                  <a:pt x="10800" y="2160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есяц 7"/>
          <p:cNvSpPr/>
          <p:nvPr/>
        </p:nvSpPr>
        <p:spPr>
          <a:xfrm flipH="1" rot="16200000">
            <a:off x="4868640" y="-156960"/>
            <a:ext cx="428760" cy="1555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00" y="0"/>
                  <a:pt x="0" y="5080"/>
                  <a:pt x="0" y="10800"/>
                </a:cubicBezTo>
                <a:cubicBezTo>
                  <a:pt x="0" y="16520"/>
                  <a:pt x="10800" y="2160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8"/>
          <p:cNvSpPr/>
          <p:nvPr/>
        </p:nvSpPr>
        <p:spPr>
          <a:xfrm>
            <a:off x="615960" y="4896000"/>
            <a:ext cx="78678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доброта      жалость     помощь    прощ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927000" y="2806560"/>
            <a:ext cx="2933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илосерди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готовность помоч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ому-нибудь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ли прости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ого-нибуд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з сострадан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человеколюб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2"/>
          <p:cNvSpPr/>
          <p:nvPr/>
        </p:nvSpPr>
        <p:spPr>
          <a:xfrm>
            <a:off x="5416560" y="2806560"/>
            <a:ext cx="3511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</a:rPr>
              <a:t>Милосерди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Готов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з сострад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казать помощь том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то в ней нуждает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C:\Documents and Settings\Ольга\Мои документы\Мои рисунки\160f5.jpg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527040" y="2006640"/>
            <a:ext cx="3111480" cy="3822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3" descr="C:\Documents and Settings\Ольга\Мои документы\Мои рисунки\словарь уш.jpg"/>
          <p:cNvPicPr/>
          <p:nvPr/>
        </p:nvPicPr>
        <p:blipFill>
          <a:blip r:embed="rId3"/>
          <a:stretch/>
        </p:blipFill>
        <p:spPr>
          <a:xfrm>
            <a:off x="5505480" y="2006640"/>
            <a:ext cx="3111480" cy="3822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8" dur="3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3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3000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2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xit" presetID="5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2" dur="3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6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C:\Documents and Settings\Ольга\Мои документы\Мои рисунки\забота1.bmp"/>
          <p:cNvPicPr/>
          <p:nvPr/>
        </p:nvPicPr>
        <p:blipFill>
          <a:blip r:embed="rId2"/>
          <a:stretch/>
        </p:blipFill>
        <p:spPr>
          <a:xfrm rot="160800">
            <a:off x="5761080" y="476280"/>
            <a:ext cx="3089160" cy="3373560"/>
          </a:xfrm>
          <a:prstGeom prst="rect">
            <a:avLst/>
          </a:prstGeom>
          <a:ln w="0">
            <a:noFill/>
          </a:ln>
        </p:spPr>
      </p:pic>
      <p:sp>
        <p:nvSpPr>
          <p:cNvPr id="87" name="TextBox 18"/>
          <p:cNvSpPr/>
          <p:nvPr/>
        </p:nvSpPr>
        <p:spPr>
          <a:xfrm>
            <a:off x="904680" y="361800"/>
            <a:ext cx="53168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Arial"/>
                <a:ea typeface="Arial"/>
              </a:rPr>
              <a:t>Милосердие</a:t>
            </a:r>
            <a:r>
              <a:rPr b="1" lang="ru-RU" sz="12000" spc="-1" strike="noStrike">
                <a:solidFill>
                  <a:srgbClr val="c00000"/>
                </a:solidFill>
                <a:latin typeface="Monotype Corsiva"/>
              </a:rPr>
              <a:t> 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0"/>
          <p:cNvSpPr/>
          <p:nvPr/>
        </p:nvSpPr>
        <p:spPr>
          <a:xfrm>
            <a:off x="971640" y="3340080"/>
            <a:ext cx="7067520" cy="20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Истинное милосердие 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это желание приносить польз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другим людям, не думая о вознагражде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70c0"/>
                </a:solidFill>
                <a:latin typeface="Arial"/>
              </a:rPr>
              <a:t>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9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0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1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05920" cy="1477800"/>
          </a:xfrm>
          <a:prstGeom prst="rect">
            <a:avLst/>
          </a:prstGeom>
          <a:solidFill>
            <a:srgbClr val="9eff9e"/>
          </a:solidFill>
          <a:ln w="9360">
            <a:solidFill>
              <a:srgbClr val="80008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i="1" lang="ru-RU" sz="4000" spc="-1" strike="noStrike">
                <a:solidFill>
                  <a:srgbClr val="007800"/>
                </a:solidFill>
                <a:latin typeface="Calibri"/>
              </a:rPr>
              <a:t>Что нужно  делать, чтобы</a:t>
            </a:r>
            <a:br>
              <a:rPr sz="4000"/>
            </a:br>
            <a:r>
              <a:rPr b="1" i="1" lang="ru-RU" sz="4000" spc="-1" strike="noStrike">
                <a:solidFill>
                  <a:srgbClr val="007800"/>
                </a:solidFill>
                <a:latin typeface="Calibri"/>
              </a:rPr>
              <a:t> стать милосердным?</a:t>
            </a:r>
            <a:br>
              <a:rPr sz="48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Box 5"/>
          <p:cNvSpPr/>
          <p:nvPr/>
        </p:nvSpPr>
        <p:spPr>
          <a:xfrm>
            <a:off x="1460520" y="2139840"/>
            <a:ext cx="6934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e4ffc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4ffc9"/>
                </a:solidFill>
                <a:latin typeface="Arial"/>
              </a:rPr>
              <a:t>Ухаживать за больны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4ffc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4ffc9"/>
                </a:solidFill>
                <a:latin typeface="Arial"/>
              </a:rPr>
              <a:t>Ухаживать за младши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4ffc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4ffc9"/>
                </a:solidFill>
                <a:latin typeface="Arial"/>
              </a:rPr>
              <a:t>Предлагать свою помощь бескорыстн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4ffc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4ffc9"/>
                </a:solidFill>
                <a:latin typeface="Arial"/>
              </a:rPr>
              <a:t>Помогать родител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e4ffc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4ffc9"/>
                </a:solidFill>
                <a:latin typeface="Arial"/>
              </a:rPr>
              <a:t>Помогать близк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4"/>
          <p:cNvSpPr/>
          <p:nvPr/>
        </p:nvSpPr>
        <p:spPr>
          <a:xfrm>
            <a:off x="0" y="1330560"/>
            <a:ext cx="8839080" cy="46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Милостивому человеку                          и Бог пода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Слушайся добрых людей            худое на ум не пойде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ff"/>
                </a:solidFill>
                <a:latin typeface="Times New Roman"/>
              </a:rPr>
              <a:t>Учись доброму                                        на путь навед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«Пока живёшь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твори добро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лишь путь добра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imes New Roman"/>
              </a:rPr>
              <a:t>спасение души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762120" y="457200"/>
            <a:ext cx="7315200" cy="703440"/>
          </a:xfrm>
          <a:prstGeom prst="rect">
            <a:avLst/>
          </a:prstGeom>
          <a:solidFill>
            <a:srgbClr val="ccff66"/>
          </a:solidFill>
          <a:ln w="93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             </a:t>
            </a:r>
            <a:r>
              <a:rPr b="1" i="1" lang="ru-RU" sz="4000" spc="-1" strike="noStrike">
                <a:solidFill>
                  <a:srgbClr val="ff0066"/>
                </a:solidFill>
                <a:latin typeface="Arial"/>
              </a:rPr>
              <a:t>Пословиц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Блок-схема: узел 2"/>
          <p:cNvSpPr/>
          <p:nvPr/>
        </p:nvSpPr>
        <p:spPr>
          <a:xfrm>
            <a:off x="1905120" y="1384200"/>
            <a:ext cx="4711680" cy="3822840"/>
          </a:xfrm>
          <a:prstGeom prst="flowChartConnector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Пожелание друзья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Сердце 6"/>
          <p:cNvSpPr/>
          <p:nvPr/>
        </p:nvSpPr>
        <p:spPr>
          <a:xfrm rot="20848800">
            <a:off x="2803680" y="65160"/>
            <a:ext cx="1482480" cy="1279440"/>
          </a:xfrm>
          <a:prstGeom prst="pie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тепл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ердце 14"/>
          <p:cNvSpPr/>
          <p:nvPr/>
        </p:nvSpPr>
        <p:spPr>
          <a:xfrm rot="1086000">
            <a:off x="4366800" y="210600"/>
            <a:ext cx="1550880" cy="1217880"/>
          </a:xfrm>
          <a:prstGeom prst="pie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ува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ердце 15"/>
          <p:cNvSpPr/>
          <p:nvPr/>
        </p:nvSpPr>
        <p:spPr>
          <a:xfrm rot="6662400">
            <a:off x="6264720" y="3819960"/>
            <a:ext cx="1482480" cy="1217520"/>
          </a:xfrm>
          <a:prstGeom prst="pie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рад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ердце 16"/>
          <p:cNvSpPr/>
          <p:nvPr/>
        </p:nvSpPr>
        <p:spPr>
          <a:xfrm rot="4940400">
            <a:off x="6443640" y="2391480"/>
            <a:ext cx="1482840" cy="1217880"/>
          </a:xfrm>
          <a:prstGeom prst="pie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помощ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Сердце 17"/>
          <p:cNvSpPr/>
          <p:nvPr/>
        </p:nvSpPr>
        <p:spPr>
          <a:xfrm rot="3186600">
            <a:off x="5680800" y="1007280"/>
            <a:ext cx="1778040" cy="1217520"/>
          </a:xfrm>
          <a:prstGeom prst="pie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вним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Сердце 18"/>
          <p:cNvSpPr/>
          <p:nvPr/>
        </p:nvSpPr>
        <p:spPr>
          <a:xfrm rot="16200000">
            <a:off x="624600" y="2264040"/>
            <a:ext cx="1644840" cy="1217880"/>
          </a:xfrm>
          <a:prstGeom prst="pie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вер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Сердце 19"/>
          <p:cNvSpPr/>
          <p:nvPr/>
        </p:nvSpPr>
        <p:spPr>
          <a:xfrm rot="18882600">
            <a:off x="1407240" y="886680"/>
            <a:ext cx="1482480" cy="1217880"/>
          </a:xfrm>
          <a:prstGeom prst="pie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улыб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Сердце 20"/>
          <p:cNvSpPr/>
          <p:nvPr/>
        </p:nvSpPr>
        <p:spPr>
          <a:xfrm rot="13414200">
            <a:off x="1925280" y="4836240"/>
            <a:ext cx="1606680" cy="1217880"/>
          </a:xfrm>
          <a:prstGeom prst="pie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счасть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Сердце 21"/>
          <p:cNvSpPr/>
          <p:nvPr/>
        </p:nvSpPr>
        <p:spPr>
          <a:xfrm rot="14409000">
            <a:off x="905400" y="3721320"/>
            <a:ext cx="1482840" cy="1217520"/>
          </a:xfrm>
          <a:prstGeom prst="pie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крас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Сердце 22"/>
          <p:cNvSpPr/>
          <p:nvPr/>
        </p:nvSpPr>
        <p:spPr>
          <a:xfrm rot="10800000">
            <a:off x="3327120" y="5295960"/>
            <a:ext cx="1778040" cy="1217520"/>
          </a:xfrm>
          <a:prstGeom prst="pie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добро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Сердце 23"/>
          <p:cNvSpPr/>
          <p:nvPr/>
        </p:nvSpPr>
        <p:spPr>
          <a:xfrm rot="8268000">
            <a:off x="4871520" y="4908240"/>
            <a:ext cx="1895760" cy="1217520"/>
          </a:xfrm>
          <a:prstGeom prst="pie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милосерд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000"/>
                            </p:stCondLst>
                            <p:childTnLst>
                              <p:par>
                                <p:cTn id="2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00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3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0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60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7000"/>
                            </p:stCondLst>
                            <p:childTnLst>
                              <p:par>
                                <p:cTn id="2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80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9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50920" y="1268280"/>
            <a:ext cx="76518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Times New Roman"/>
              </a:rPr>
              <a:t>Домашнее зад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7375e"/>
                </a:solidFill>
                <a:latin typeface="Times New Roman"/>
              </a:rPr>
              <a:t>Рисунок «Цветы милосердия»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7010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«Капелька по капельке,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      </a:t>
            </a: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кирпичик по кирпичик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           </a:t>
            </a:r>
            <a:r>
              <a:rPr b="1" lang="ru-RU" sz="3600" spc="-1" strike="noStrike">
                <a:solidFill>
                  <a:srgbClr val="1f497d"/>
                </a:solidFill>
                <a:latin typeface="Calibri"/>
              </a:rPr>
              <a:t>строится мир доброты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WordArt 5"/>
          <p:cNvSpPr txBox="1"/>
          <p:nvPr/>
        </p:nvSpPr>
        <p:spPr>
          <a:xfrm>
            <a:off x="1371600" y="4343400"/>
            <a:ext cx="64771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66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66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 spd="med"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1905120" y="1517760"/>
            <a:ext cx="6400800" cy="280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Arial"/>
                <a:ea typeface="Arial"/>
              </a:rPr>
              <a:t>доброт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2060"/>
                </a:solidFill>
                <a:latin typeface="Arial"/>
                <a:ea typeface="Arial"/>
              </a:rPr>
              <a:t>милосердие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4" descr="daisies-on-blue-background-871294684630jh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06280" y="5886000"/>
            <a:ext cx="7599240" cy="9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«Праздник белого цветка»,  дети Николая </a:t>
            </a:r>
            <a:r>
              <a:rPr b="1" lang="en-US" sz="2400" spc="-1" strike="noStrike">
                <a:solidFill>
                  <a:srgbClr val="000099"/>
                </a:solidFill>
                <a:latin typeface="Calibri"/>
              </a:rPr>
              <a:t>II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и Александры Федоровны в        Итальянском дворике Белого Ливадийского дворц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6" descr="0_8c9ab_410efe7d_XL"/>
          <p:cNvPicPr/>
          <p:nvPr/>
        </p:nvPicPr>
        <p:blipFill>
          <a:blip r:embed="rId2"/>
          <a:stretch/>
        </p:blipFill>
        <p:spPr>
          <a:xfrm>
            <a:off x="1467000" y="561960"/>
            <a:ext cx="6957720" cy="52354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17281001b654"/>
          <p:cNvPicPr/>
          <p:nvPr/>
        </p:nvPicPr>
        <p:blipFill>
          <a:blip r:embed="rId2"/>
          <a:stretch/>
        </p:blipFill>
        <p:spPr>
          <a:xfrm>
            <a:off x="571680" y="523800"/>
            <a:ext cx="8231040" cy="4819680"/>
          </a:xfrm>
          <a:prstGeom prst="rect">
            <a:avLst/>
          </a:prstGeom>
          <a:ln w="0">
            <a:noFill/>
          </a:ln>
        </p:spPr>
      </p:pic>
    </p:spTree>
  </p:cSld>
  <p:transition spd="med"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6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4400" spc="-1" strike="noStrike">
                <a:solidFill>
                  <a:srgbClr val="00b0f0"/>
                </a:solidFill>
                <a:latin typeface="Calibri"/>
              </a:rPr>
              <a:t>Александра Федоровна</a:t>
            </a:r>
            <a:br>
              <a:rPr sz="4400"/>
            </a:br>
            <a:r>
              <a:rPr b="1" lang="ru-RU" sz="4400" spc="-1" strike="noStrike">
                <a:solidFill>
                  <a:srgbClr val="00b0f0"/>
                </a:solidFill>
                <a:latin typeface="Calibri"/>
              </a:rPr>
              <a:t>(жена Николая </a:t>
            </a: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II)</a:t>
            </a:r>
            <a:r>
              <a:rPr b="1" lang="ru-RU" sz="4400" spc="-1" strike="noStrike">
                <a:solidFill>
                  <a:srgbClr val="00b0f0"/>
                </a:solidFill>
                <a:latin typeface="Calibri"/>
              </a:rPr>
              <a:t>: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2482920" y="2095560"/>
            <a:ext cx="4578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ля того, чтобы проявить заботу, не так уж много и нужно – слово ободрения, когда у  кого-то неприятности, немного нежности, когда другой выглядит печальным, вовремя прийти на помощь тому, кто устал. Дети должны учиться приносить пользу родителям и друг дру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Милосердие- это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015920" y="1562040"/>
            <a:ext cx="3346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добро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жал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сопережива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терпим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сочувств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человечн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чутк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уваж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памя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971600" y="1650960"/>
            <a:ext cx="3568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равнодуш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жестокос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эгоиз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необдуманно-произнесенное слов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1680" y="2455920"/>
            <a:ext cx="8229600" cy="131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Arial"/>
                <a:ea typeface="Arial"/>
              </a:rPr>
              <a:t>милосердие</a:t>
            </a:r>
            <a:r>
              <a:rPr b="1" lang="ru-RU" sz="8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Месяц 3"/>
          <p:cNvSpPr/>
          <p:nvPr/>
        </p:nvSpPr>
        <p:spPr>
          <a:xfrm flipH="1" rot="16200000">
            <a:off x="3045240" y="2109600"/>
            <a:ext cx="428400" cy="1467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00" y="0"/>
                  <a:pt x="0" y="5080"/>
                  <a:pt x="0" y="10800"/>
                </a:cubicBezTo>
                <a:cubicBezTo>
                  <a:pt x="0" y="16520"/>
                  <a:pt x="10800" y="2160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есяц 4"/>
          <p:cNvSpPr/>
          <p:nvPr/>
        </p:nvSpPr>
        <p:spPr>
          <a:xfrm flipH="1" rot="16200000">
            <a:off x="4957560" y="2020680"/>
            <a:ext cx="428760" cy="1555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00" y="0"/>
                  <a:pt x="0" y="5080"/>
                  <a:pt x="0" y="10800"/>
                </a:cubicBezTo>
                <a:cubicBezTo>
                  <a:pt x="0" y="16520"/>
                  <a:pt x="10800" y="2160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0440"/>
            <a:ext cx="8229600" cy="1310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2060"/>
                </a:solidFill>
                <a:latin typeface="Arial"/>
                <a:ea typeface="Arial"/>
              </a:rPr>
              <a:t>милосердие</a:t>
            </a:r>
            <a:r>
              <a:rPr b="1" lang="ru-RU" sz="8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есяц 3"/>
          <p:cNvSpPr/>
          <p:nvPr/>
        </p:nvSpPr>
        <p:spPr>
          <a:xfrm flipH="1" rot="16200000">
            <a:off x="2912760" y="-112320"/>
            <a:ext cx="428760" cy="14666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00" y="0"/>
                  <a:pt x="0" y="5080"/>
                  <a:pt x="0" y="10800"/>
                </a:cubicBezTo>
                <a:cubicBezTo>
                  <a:pt x="0" y="16520"/>
                  <a:pt x="10800" y="2160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одержимое 2"/>
          <p:cNvSpPr/>
          <p:nvPr/>
        </p:nvSpPr>
        <p:spPr>
          <a:xfrm>
            <a:off x="793800" y="1917720"/>
            <a:ext cx="3200400" cy="19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мил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мил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C:\Documents and Settings\Ольга\Мои документы\Мои рисунки\радость1.jpg"/>
          <p:cNvPicPr/>
          <p:nvPr/>
        </p:nvPicPr>
        <p:blipFill>
          <a:blip r:embed="rId2"/>
          <a:stretch/>
        </p:blipFill>
        <p:spPr>
          <a:xfrm>
            <a:off x="5986440" y="1335240"/>
            <a:ext cx="1566720" cy="19875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6" descr="C:\Documents and Settings\Ольга\Мои документы\Мои рисунки\ромашка.jpg"/>
          <p:cNvPicPr/>
          <p:nvPr/>
        </p:nvPicPr>
        <p:blipFill>
          <a:blip r:embed="rId3"/>
          <a:stretch/>
        </p:blipFill>
        <p:spPr>
          <a:xfrm rot="331800">
            <a:off x="7059600" y="2833560"/>
            <a:ext cx="1585800" cy="18716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4" descr=""/>
          <p:cNvPicPr/>
          <p:nvPr/>
        </p:nvPicPr>
        <p:blipFill>
          <a:blip r:embed="rId4"/>
          <a:stretch/>
        </p:blipFill>
        <p:spPr>
          <a:xfrm rot="343800">
            <a:off x="7697520" y="1563480"/>
            <a:ext cx="982440" cy="12366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9"/>
          <p:cNvSpPr/>
          <p:nvPr/>
        </p:nvSpPr>
        <p:spPr>
          <a:xfrm>
            <a:off x="239040" y="3873600"/>
            <a:ext cx="59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милость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-это любовь и жал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Прямоугольник 10"/>
          <p:cNvSpPr/>
          <p:nvPr/>
        </p:nvSpPr>
        <p:spPr>
          <a:xfrm>
            <a:off x="260280" y="4495680"/>
            <a:ext cx="6800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помиловать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- простить, отнестись с любовью и к такому человеку, которого нам простить труд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7" descr="C:\Documents and Settings\Ольга\Мои документы\Мои рисунки\жалость.jpg"/>
          <p:cNvPicPr/>
          <p:nvPr/>
        </p:nvPicPr>
        <p:blipFill>
          <a:blip r:embed="rId5"/>
          <a:stretch/>
        </p:blipFill>
        <p:spPr>
          <a:xfrm>
            <a:off x="4078440" y="1914480"/>
            <a:ext cx="1822320" cy="2028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C:\Documents and Settings\Ольга\Мои документы\Мои рисунки\старость.jpg"/>
          <p:cNvPicPr/>
          <p:nvPr/>
        </p:nvPicPr>
        <p:blipFill>
          <a:blip r:embed="rId6"/>
          <a:stretch/>
        </p:blipFill>
        <p:spPr>
          <a:xfrm>
            <a:off x="7132680" y="4541760"/>
            <a:ext cx="1974960" cy="198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104640" y="272880"/>
            <a:ext cx="3822840" cy="116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Arial"/>
                <a:ea typeface="Arial"/>
              </a:rPr>
              <a:t>милосерди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016600" y="1606320"/>
            <a:ext cx="3511440" cy="39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сердц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сердце боли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   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(душа боли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сердечная бол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Arial"/>
              </a:rPr>
              <a:t>сердечный челове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Месяц 4"/>
          <p:cNvSpPr/>
          <p:nvPr/>
        </p:nvSpPr>
        <p:spPr>
          <a:xfrm flipH="1" rot="16200000">
            <a:off x="5113080" y="42480"/>
            <a:ext cx="428760" cy="1244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0800" y="0"/>
                  <a:pt x="0" y="5080"/>
                  <a:pt x="0" y="10800"/>
                </a:cubicBezTo>
                <a:cubicBezTo>
                  <a:pt x="0" y="16520"/>
                  <a:pt x="10800" y="21600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4f81bd"/>
          </a:solidFill>
          <a:ln w="2844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08T12:24:37Z</dcterms:created>
  <dc:creator>Асафьева О.С.</dc:creator>
  <dc:description/>
  <dc:language>en-US</dc:language>
  <cp:lastModifiedBy>чудик</cp:lastModifiedBy>
  <dcterms:modified xsi:type="dcterms:W3CDTF">2013-11-10T16:51:09Z</dcterms:modified>
  <cp:revision>178</cp:revision>
  <dc:subject>презентация к уроку</dc:subject>
  <dc:title>Поговорим о МИЛОСЕРДИИ</dc:title>
</cp:coreProperties>
</file>